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BE9-D891-42FA-A439-8AE16865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99E-99D2-4D2D-B70A-DC12669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B7D-9B79-4AA8-B048-A1B161C9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D70-6837-4476-84B9-64B6EE95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58F-0146-44BF-A729-38EDE1FE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6AA-1E0C-48E6-9D82-BDF2734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DB3-9585-4299-8923-5190832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2CD-EBD4-495F-BB2F-582181A1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100-D89C-4B53-ABDF-C6078F8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FF8-83BB-40BA-9D92-8B807D5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F05-BEF3-4064-B6A5-2BAD315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18C-F8DA-4752-8922-D09C68A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4057D-69FD-4469-B278-2836CA628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3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9.xml"/><Relationship Id="rId14" Type="http://schemas.openxmlformats.org/officeDocument/2006/relationships/slide" Target="slide17.xml"/><Relationship Id="rId15" Type="http://schemas.openxmlformats.org/officeDocument/2006/relationships/slide" Target="slide8.xml"/><Relationship Id="rId16" Type="http://schemas.openxmlformats.org/officeDocument/2006/relationships/slide" Target="slide6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 famous African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frica's largest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ti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ile Crocod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539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. It was established in 19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1000" y="1247760"/>
            <a:ext cx="664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imbabwe was establish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1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Mt. Kilimanja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ca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 is the world's second-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ulous contin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9120" y="2057400"/>
            <a:ext cx="57657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nother nam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ildebe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is the president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Morgan Tsvangir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Arthur Mutamb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Robert Muga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obert Muga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frica's largest l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253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ke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. Red, blue, white, yellow, black, and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2880" y="1247760"/>
            <a:ext cx="63867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olors are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fla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rgest frog in the world i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roon, Afric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can this frog get to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5120"/>
            <a:ext cx="1600200" cy="764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28600"/>
            <a:ext cx="1828800" cy="4291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Zimbabw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28600"/>
            <a:ext cx="1600200" cy="764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rican Geogra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1508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 of Zimbab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e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k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apitals of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 Town, Bloemfontein, and Pre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average rainf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frica? (per ye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0-5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10-20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30-40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539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20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2536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0280" y="1963800"/>
            <a:ext cx="6316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groups of Afri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ons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imbabwe is a country in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art of Africa is it loca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orth, South, East, or W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536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part of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smallest countr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is a beautiful woven clo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originated in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is cloth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t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ly 1 percent of this country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253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ountries do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 Charles School System</cp:lastModifiedBy>
  <cp:lastPrinted>2001-01-31T16:21:13Z</cp:lastPrinted>
  <dcterms:modified xsi:type="dcterms:W3CDTF">2001-01-31T16:40:52Z</dcterms:modified>
  <cp:revision>5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